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cashreg.wav" ContentType="audio/x-wav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6.png" ContentType="image/png"/>
  <Override PartName="/ppt/media/camera.wav" ContentType="audio/x-wav"/>
  <Override PartName="/ppt/media/image6.png" ContentType="image/png"/>
  <Override PartName="/ppt/media/type.wav" ContentType="audio/x-wav"/>
  <Override PartName="/ppt/media/image17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5.xml" ContentType="application/vnd.openxmlformats-officedocument.presentationml.comments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5:49:30.612000000" idx="1">
    <p:pos x="1479" y="628"/>
    <p:text/>
  </p:cm>
</p:cmLst>
</file>

<file path=ppt/comments/comment21.xml><?xml version="1.0" encoding="utf-8"?>
<p:cmLst xmlns:p="http://schemas.openxmlformats.org/presentationml/2006/main">
  <p:cm authorId="0" dt="2016-08-19T15:49:38.394000000" idx="2">
    <p:pos x="2300" y="7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770-77C3-48F8-A28A-DD9DC68AA4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734F-0542-4B3C-AE0E-A88BFEE669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DF3-FE3B-4689-818C-539DFB71BC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137F-0403-4D85-8CE7-0AD23098E9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D730-5CF9-4527-806D-C10C077E50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568-9B76-40C4-BA56-5D65D78015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表内乘法和除法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4016520" y="3429000"/>
            <a:ext cx="3813120" cy="28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92360" y="256536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乘法口诀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971640" y="3141720"/>
            <a:ext cx="739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填上适当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539640" y="1773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1"/>
          <p:cNvSpPr/>
          <p:nvPr/>
        </p:nvSpPr>
        <p:spPr>
          <a:xfrm>
            <a:off x="3924360" y="36590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7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46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332000" y="19188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规律，填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78678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9"/>
          <p:cNvSpPr/>
          <p:nvPr/>
        </p:nvSpPr>
        <p:spPr>
          <a:xfrm>
            <a:off x="826920" y="2421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仔细分析给出的已知数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已知数据中找出隐含的规律。通过观察前两组数据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发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3=6,6×5=30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上面三个数的乘积正好等于下面三角形里面的数。根据发现的规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后面应填的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3=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2=18;1×6=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8=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7867800" cy="181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788000" y="39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9"/>
          <p:cNvSpPr/>
          <p:nvPr/>
        </p:nvSpPr>
        <p:spPr>
          <a:xfrm>
            <a:off x="7451640" y="393372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3"/>
          <p:cNvSpPr/>
          <p:nvPr/>
        </p:nvSpPr>
        <p:spPr>
          <a:xfrm>
            <a:off x="1476360" y="184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乘法口诀表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一个积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只能写出两个乘法算式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300720" y="76500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02" name="矩形 1"/>
          <p:cNvSpPr/>
          <p:nvPr/>
        </p:nvSpPr>
        <p:spPr>
          <a:xfrm rot="18297600">
            <a:off x="6529320" y="4051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5688000" y="295272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1619280" y="2492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乘法口诀表。在乘法口诀表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两个数的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时可以写出多个乘法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知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想到口诀“四四十六”和“二八十六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可以写出三个乘法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2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 rot="18297600">
            <a:off x="6788160" y="4829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20"/>
          <p:cNvSpPr/>
          <p:nvPr/>
        </p:nvSpPr>
        <p:spPr>
          <a:xfrm rot="18297600">
            <a:off x="6780240" y="28112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4"/>
          <p:cNvSpPr/>
          <p:nvPr/>
        </p:nvSpPr>
        <p:spPr>
          <a:xfrm>
            <a:off x="1763640" y="184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乘法口诀表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一个积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只能写出两个乘法算式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5688000" y="295272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1763640" y="3848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乘法口诀表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一个积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只能写出两个乘法算式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5713560" y="495612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971640" y="177336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幼儿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朋友每人吃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鸡蛋，这些鸡蛋够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62" descr="84-2"/>
          <p:cNvPicPr/>
          <p:nvPr/>
        </p:nvPicPr>
        <p:blipFill>
          <a:blip r:embed="rId1"/>
          <a:stretch/>
        </p:blipFill>
        <p:spPr>
          <a:xfrm>
            <a:off x="5351400" y="2430360"/>
            <a:ext cx="2048040" cy="14223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74"/>
          <p:cNvGrpSpPr/>
          <p:nvPr/>
        </p:nvGrpSpPr>
        <p:grpSpPr>
          <a:xfrm>
            <a:off x="1332000" y="3997440"/>
            <a:ext cx="3384000" cy="1770120"/>
            <a:chOff x="1332000" y="3997440"/>
            <a:chExt cx="3384000" cy="1770120"/>
          </a:xfrm>
        </p:grpSpPr>
        <p:sp>
          <p:nvSpPr>
            <p:cNvPr id="242" name="Rectangle 63"/>
            <p:cNvSpPr/>
            <p:nvPr/>
          </p:nvSpPr>
          <p:spPr>
            <a:xfrm>
              <a:off x="1332000" y="4005720"/>
              <a:ext cx="2790360" cy="17618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2"/>
            <p:cNvSpPr/>
            <p:nvPr/>
          </p:nvSpPr>
          <p:spPr>
            <a:xfrm>
              <a:off x="1692000" y="4359600"/>
              <a:ext cx="3024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×2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（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"/>
            <p:cNvSpPr/>
            <p:nvPr/>
          </p:nvSpPr>
          <p:spPr>
            <a:xfrm>
              <a:off x="1763640" y="4726440"/>
              <a:ext cx="2592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×4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4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70"/>
            <p:cNvSpPr/>
            <p:nvPr/>
          </p:nvSpPr>
          <p:spPr>
            <a:xfrm>
              <a:off x="1446120" y="3997440"/>
              <a:ext cx="266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方法</a:t>
              </a:r>
              <a:r>
                <a:rPr b="0" lang="en-US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：横着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2"/>
            <p:cNvSpPr/>
            <p:nvPr/>
          </p:nvSpPr>
          <p:spPr>
            <a:xfrm>
              <a:off x="1620720" y="5158080"/>
              <a:ext cx="2592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4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4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75"/>
          <p:cNvGrpSpPr/>
          <p:nvPr/>
        </p:nvGrpSpPr>
        <p:grpSpPr>
          <a:xfrm>
            <a:off x="4573440" y="3943440"/>
            <a:ext cx="3095640" cy="1761840"/>
            <a:chOff x="4573440" y="3943440"/>
            <a:chExt cx="3095640" cy="1761840"/>
          </a:xfrm>
        </p:grpSpPr>
        <p:sp>
          <p:nvSpPr>
            <p:cNvPr id="248" name="Rectangle 67"/>
            <p:cNvSpPr/>
            <p:nvPr/>
          </p:nvSpPr>
          <p:spPr>
            <a:xfrm>
              <a:off x="4573440" y="3943440"/>
              <a:ext cx="2789280" cy="1761840"/>
            </a:xfrm>
            <a:prstGeom prst="rect">
              <a:avLst/>
            </a:prstGeom>
            <a:solidFill>
              <a:srgbClr val="c9e4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2"/>
            <p:cNvSpPr/>
            <p:nvPr/>
          </p:nvSpPr>
          <p:spPr>
            <a:xfrm>
              <a:off x="4860720" y="4941720"/>
              <a:ext cx="280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0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4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2"/>
            <p:cNvSpPr/>
            <p:nvPr/>
          </p:nvSpPr>
          <p:spPr>
            <a:xfrm>
              <a:off x="4860720" y="443700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×5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3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3"/>
            <p:cNvSpPr/>
            <p:nvPr/>
          </p:nvSpPr>
          <p:spPr>
            <a:xfrm>
              <a:off x="4633560" y="39970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方法</a:t>
              </a:r>
              <a:r>
                <a:rPr b="0" lang="en-US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8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：竖着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4" descr="20"/>
          <p:cNvPicPr/>
          <p:nvPr/>
        </p:nvPicPr>
        <p:blipFill>
          <a:blip r:embed="rId1"/>
          <a:stretch/>
        </p:blipFill>
        <p:spPr>
          <a:xfrm>
            <a:off x="1979640" y="3284640"/>
            <a:ext cx="5400720" cy="14605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971640" y="1844640"/>
            <a:ext cx="734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把椅子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条腿，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条椅子腿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椅子面。工人 师傅想做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椅子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够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987640" y="4941720"/>
            <a:ext cx="305748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＜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7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6443640" y="537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258920" y="1844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口诀补充完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403280" y="2637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四九（ 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859280" y="2637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七（    ）六十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332000" y="4365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五九（  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18728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）九七十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788000" y="35020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）九二十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4788000" y="436572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）九三十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4788000" y="50864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）九五十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1114560" y="5157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     ）九十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48292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三十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558000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1547640" y="3357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219640" y="3502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2411280" y="4365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四十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5148360" y="4365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54764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5219640" y="5086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7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332000" y="177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编制九九乘法口诀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258920" y="24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九九乘法口诀表的规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258920" y="328464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的推理、概括和应用知识解决实际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90792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43160" y="2382840"/>
            <a:ext cx="3114360" cy="4040640"/>
            <a:chOff x="1343160" y="2382840"/>
            <a:chExt cx="3114360" cy="4040640"/>
          </a:xfrm>
        </p:grpSpPr>
        <p:sp>
          <p:nvSpPr>
            <p:cNvPr id="282" name="Text Box 4"/>
            <p:cNvSpPr/>
            <p:nvPr/>
          </p:nvSpPr>
          <p:spPr>
            <a:xfrm>
              <a:off x="1343160" y="238284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7=</a:t>
              </a:r>
              <a:r>
                <a:rPr b="0" lang="en-US" sz="7200" spc="-1" strike="noStrike">
                  <a:solidFill>
                    <a:srgbClr val="ff3300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43160" y="378432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8=</a:t>
              </a:r>
              <a:r>
                <a:rPr b="0" lang="en-US" sz="7200" spc="-1" strike="noStrike">
                  <a:solidFill>
                    <a:srgbClr val="9966ff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>
              <a:off x="1343160" y="447012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5=</a:t>
              </a:r>
              <a:r>
                <a:rPr b="0" lang="en-US" sz="7200" spc="-1" strike="noStrike">
                  <a:solidFill>
                    <a:srgbClr val="990099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1343160" y="5232240"/>
              <a:ext cx="31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9×6=</a:t>
              </a:r>
              <a:r>
                <a:rPr b="0" lang="en-US" sz="7200" spc="-1" strike="noStrike">
                  <a:solidFill>
                    <a:srgbClr val="ff6600"/>
                  </a:solidFill>
                  <a:latin typeface="Wingdings 2"/>
                  <a:ea typeface="Wingdings 2"/>
                </a:rPr>
                <a:t>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AutoShape 8"/>
          <p:cNvSpPr/>
          <p:nvPr/>
        </p:nvSpPr>
        <p:spPr>
          <a:xfrm>
            <a:off x="1495440" y="1773360"/>
            <a:ext cx="1447920" cy="457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1343160" y="314496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4=</a:t>
            </a:r>
            <a:r>
              <a:rPr b="0" lang="en-US" sz="7200" spc="-1" strike="noStrike">
                <a:solidFill>
                  <a:srgbClr val="ff00ff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343160" y="378468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8=</a:t>
            </a:r>
            <a:r>
              <a:rPr b="0" lang="en-US" sz="7200" spc="-1" strike="noStrike">
                <a:solidFill>
                  <a:srgbClr val="9966ff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343160" y="447048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5=</a:t>
            </a:r>
            <a:r>
              <a:rPr b="0" lang="en-US" sz="7200" spc="-1" strike="noStrike">
                <a:solidFill>
                  <a:srgbClr val="990099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1343160" y="523224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6=</a:t>
            </a:r>
            <a:r>
              <a:rPr b="0" lang="en-US" sz="7200" spc="-1" strike="noStrike">
                <a:solidFill>
                  <a:srgbClr val="ff6600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4390920" y="2306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9=</a:t>
            </a:r>
            <a:r>
              <a:rPr b="0" lang="en-US" sz="7200" spc="-1" strike="noStrike">
                <a:solidFill>
                  <a:srgbClr val="c0504d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238640" y="386064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×4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4390920" y="4530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</a:t>
            </a:r>
            <a:r>
              <a:rPr b="0" lang="en-US" sz="7200" spc="-1" strike="noStrike">
                <a:solidFill>
                  <a:srgbClr val="ffcc00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4314960" y="530856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×9=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067440" y="253512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Times New Roman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3019320" y="329724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421df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2981160" y="398304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Times New Roman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2943360" y="4745160"/>
            <a:ext cx="99036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943360" y="5506920"/>
            <a:ext cx="99036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4238640" y="4135320"/>
            <a:ext cx="914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5305320" y="4821120"/>
            <a:ext cx="91440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4314960" y="5583240"/>
            <a:ext cx="91440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4390920" y="31449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</a:t>
            </a:r>
            <a:r>
              <a:rPr b="0" lang="en-US" sz="7200" spc="-1" strike="noStrike">
                <a:solidFill>
                  <a:srgbClr val="c421df"/>
                </a:solidFill>
                <a:latin typeface="Wingdings 2"/>
                <a:ea typeface="Wingdings 2"/>
              </a:rPr>
              <a:t>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5305320" y="3373560"/>
            <a:ext cx="83844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343160" y="238284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×7=</a:t>
            </a:r>
            <a:r>
              <a:rPr b="0" lang="en-US" sz="7200" spc="-1" strike="noStrike">
                <a:solidFill>
                  <a:srgbClr val="ff3300"/>
                </a:solidFill>
                <a:latin typeface="Wingdings 2"/>
                <a:ea typeface="Wingdings 2"/>
              </a:rPr>
              <a:t>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3019320" y="2611440"/>
            <a:ext cx="990720" cy="7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1116000" y="1844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花儿后面藏着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580000" y="6922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4"/>
          <p:cNvSpPr/>
          <p:nvPr/>
        </p:nvSpPr>
        <p:spPr>
          <a:xfrm>
            <a:off x="755640" y="1702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7331400" cy="4140360"/>
          </a:xfrm>
          <a:prstGeom prst="rect">
            <a:avLst/>
          </a:prstGeom>
          <a:ln w="0">
            <a:noFill/>
          </a:ln>
        </p:spPr>
      </p:pic>
      <p:sp>
        <p:nvSpPr>
          <p:cNvPr id="312" name="直接连接符 11"/>
          <p:cNvSpPr/>
          <p:nvPr/>
        </p:nvSpPr>
        <p:spPr>
          <a:xfrm flipV="1">
            <a:off x="1476360" y="3573000"/>
            <a:ext cx="345600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12"/>
          <p:cNvSpPr/>
          <p:nvPr/>
        </p:nvSpPr>
        <p:spPr>
          <a:xfrm flipV="1">
            <a:off x="2843280" y="3644640"/>
            <a:ext cx="453708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21"/>
          <p:cNvSpPr/>
          <p:nvPr/>
        </p:nvSpPr>
        <p:spPr>
          <a:xfrm flipH="1" flipV="1">
            <a:off x="1476360" y="3429000"/>
            <a:ext cx="244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24"/>
          <p:cNvSpPr/>
          <p:nvPr/>
        </p:nvSpPr>
        <p:spPr>
          <a:xfrm flipV="1">
            <a:off x="5076720" y="3573000"/>
            <a:ext cx="100800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25"/>
          <p:cNvSpPr/>
          <p:nvPr/>
        </p:nvSpPr>
        <p:spPr>
          <a:xfrm flipH="1" flipV="1">
            <a:off x="3850920" y="3573360"/>
            <a:ext cx="2592360" cy="194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2"/>
          <p:cNvSpPr/>
          <p:nvPr/>
        </p:nvSpPr>
        <p:spPr>
          <a:xfrm flipH="1" flipV="1">
            <a:off x="2700000" y="3573000"/>
            <a:ext cx="482436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2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AutoShape 27"/>
          <p:cNvSpPr/>
          <p:nvPr/>
        </p:nvSpPr>
        <p:spPr>
          <a:xfrm>
            <a:off x="5869080" y="1125360"/>
            <a:ext cx="2625480" cy="1656000"/>
          </a:xfrm>
          <a:prstGeom prst="wedgeRoundRectCallout">
            <a:avLst>
              <a:gd name="adj1" fmla="val -70347"/>
              <a:gd name="adj2" fmla="val -7402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5975280" y="1227240"/>
            <a:ext cx="2519280" cy="459720"/>
          </a:xfrm>
          <a:prstGeom prst="rect">
            <a:avLst/>
          </a:prstGeom>
          <a:solidFill>
            <a:srgbClr val="6dff44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法口诀表是计算乘、除法的重要工具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要熟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7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矩形 18"/>
          <p:cNvSpPr/>
          <p:nvPr/>
        </p:nvSpPr>
        <p:spPr>
          <a:xfrm>
            <a:off x="720720" y="3860640"/>
            <a:ext cx="7416720" cy="1373760"/>
          </a:xfrm>
          <a:prstGeom prst="rect">
            <a:avLst/>
          </a:prstGeom>
          <a:solidFill>
            <a:srgbClr val="558ed5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采用以下几种方法记忆乘法口诀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①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横着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几行就是几的乘法口诀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口诀就有几句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②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竖着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第一列到第九列是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~9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口诀顺序出现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③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斜着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外面斜行上的每一句口诀的两个乘数都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227640" y="83664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1628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下面各题，并说出用哪一句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4800" y="2924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×8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67520" y="45244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×6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348000" y="45244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×8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1120" y="460044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×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6084720" y="285264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×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424320" y="29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8×5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28480" y="36860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四八三十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76400" y="2924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348000" y="3686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五八四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4719600" y="2924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091200" y="3686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六七四十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7539120" y="284796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604800" y="53625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二七十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976400" y="460044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3424320" y="536256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七八五十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643280" y="45244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6167520" y="5362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六十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7539120" y="45244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700360" y="692280"/>
            <a:ext cx="5548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组同学合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学过的乘法口诀整理在下表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1880" y="1773360"/>
          <a:ext cx="8209080" cy="4371840"/>
        </p:xfrm>
        <a:graphic>
          <a:graphicData uri="http://schemas.openxmlformats.org/drawingml/2006/table">
            <a:tbl>
              <a:tblPr/>
              <a:tblGrid>
                <a:gridCol w="911160"/>
                <a:gridCol w="912960"/>
                <a:gridCol w="912960"/>
                <a:gridCol w="911160"/>
                <a:gridCol w="912600"/>
                <a:gridCol w="911520"/>
                <a:gridCol w="912600"/>
                <a:gridCol w="911160"/>
                <a:gridCol w="912960"/>
              </a:tblGrid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一一得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一二得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二得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一三得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三得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三三得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13"/>
          <p:cNvSpPr/>
          <p:nvPr/>
        </p:nvSpPr>
        <p:spPr>
          <a:xfrm>
            <a:off x="7672320" y="57578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九八十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68360" y="3284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四得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68360" y="3860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五得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68360" y="4292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六得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68360" y="479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七得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41360" y="5229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八得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68360" y="5732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九得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14440" y="3284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四得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414440" y="3860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五一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414440" y="4292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六十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414440" y="479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七十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387440" y="5229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八十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414440" y="5732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九十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03560" y="32781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四十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66920" y="32781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四十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102120" y="38084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五二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102120" y="43131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六二十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075120" y="47451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七二十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102120" y="52498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八三十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030560" y="38084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五二十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019400" y="43257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六三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030560" y="47800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七三十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019400" y="52354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八四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086360" y="57531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九四十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898880" y="43257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六三十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921200" y="478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七四十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21200" y="52498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八四十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003640" y="5769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九五十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821200" y="57531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九六十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769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九七十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203560" y="384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五十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203560" y="4275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六十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203560" y="47800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七二十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176560" y="5211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八二十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203560" y="57164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九二十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102120" y="5753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九三十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853240" y="52592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八五十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853240" y="47991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七四十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6824520" y="52592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八六十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430200" y="1557360"/>
            <a:ext cx="3768840" cy="2254320"/>
            <a:chOff x="430200" y="1557360"/>
            <a:chExt cx="3768840" cy="2254320"/>
          </a:xfrm>
        </p:grpSpPr>
        <p:sp>
          <p:nvSpPr>
            <p:cNvPr id="125" name="AutoShape 31"/>
            <p:cNvSpPr/>
            <p:nvPr/>
          </p:nvSpPr>
          <p:spPr>
            <a:xfrm>
              <a:off x="1866600" y="1557360"/>
              <a:ext cx="2332440" cy="891000"/>
            </a:xfrm>
            <a:prstGeom prst="wedgeRoundRectCallout">
              <a:avLst>
                <a:gd name="adj1" fmla="val -65092"/>
                <a:gd name="adj2" fmla="val 37759"/>
                <a:gd name="adj3" fmla="val 16667"/>
              </a:avLst>
            </a:prstGeom>
            <a:solidFill>
              <a:srgbClr val="4f81bd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横着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几行就是几的乘法口诀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口诀就有几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430200" y="2018880"/>
              <a:ext cx="1322640" cy="179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4"/>
          <p:cNvGrpSpPr/>
          <p:nvPr/>
        </p:nvGrpSpPr>
        <p:grpSpPr>
          <a:xfrm>
            <a:off x="5048280" y="3489480"/>
            <a:ext cx="4044960" cy="1957320"/>
            <a:chOff x="5048280" y="3489480"/>
            <a:chExt cx="4044960" cy="1957320"/>
          </a:xfrm>
        </p:grpSpPr>
        <p:sp>
          <p:nvSpPr>
            <p:cNvPr id="128" name="AutoShape 34"/>
            <p:cNvSpPr/>
            <p:nvPr/>
          </p:nvSpPr>
          <p:spPr>
            <a:xfrm>
              <a:off x="5048280" y="4223160"/>
              <a:ext cx="2563200" cy="575280"/>
            </a:xfrm>
            <a:prstGeom prst="wedgeRoundRectCallout">
              <a:avLst>
                <a:gd name="adj1" fmla="val 64490"/>
                <a:gd name="adj2" fmla="val -26236"/>
                <a:gd name="adj3" fmla="val 16667"/>
              </a:avLst>
            </a:prstGeom>
            <a:solidFill>
              <a:srgbClr val="7030a0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竖着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第一列到第九列是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~9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口诀顺序出现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42" descr="13"/>
            <p:cNvPicPr/>
            <p:nvPr/>
          </p:nvPicPr>
          <p:blipFill>
            <a:blip r:embed="rId2"/>
            <a:stretch/>
          </p:blipFill>
          <p:spPr>
            <a:xfrm>
              <a:off x="7807320" y="348948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1"/>
          <p:cNvGrpSpPr/>
          <p:nvPr/>
        </p:nvGrpSpPr>
        <p:grpSpPr>
          <a:xfrm>
            <a:off x="176040" y="3714840"/>
            <a:ext cx="4756320" cy="2350440"/>
            <a:chOff x="176040" y="3714840"/>
            <a:chExt cx="4756320" cy="2350440"/>
          </a:xfrm>
        </p:grpSpPr>
        <p:sp>
          <p:nvSpPr>
            <p:cNvPr id="131" name="AutoShape 38"/>
            <p:cNvSpPr/>
            <p:nvPr/>
          </p:nvSpPr>
          <p:spPr>
            <a:xfrm>
              <a:off x="1698840" y="3714840"/>
              <a:ext cx="3233520" cy="1286280"/>
            </a:xfrm>
            <a:prstGeom prst="wedgeRoundRectCallout">
              <a:avLst>
                <a:gd name="adj1" fmla="val -64236"/>
                <a:gd name="adj2" fmla="val 34328"/>
                <a:gd name="adj3" fmla="val 16667"/>
              </a:avLst>
            </a:prstGeom>
            <a:solidFill>
              <a:srgbClr val="ffff00">
                <a:alpha val="20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张表中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共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句口诀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根据这些口诀可计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乘法或除法算式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乘法口诀表是计算乘、除法的重要工具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定要熟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176040" y="4443480"/>
              <a:ext cx="1656000" cy="162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组合 3"/>
          <p:cNvGrpSpPr/>
          <p:nvPr/>
        </p:nvGrpSpPr>
        <p:grpSpPr>
          <a:xfrm>
            <a:off x="4643280" y="498600"/>
            <a:ext cx="4313520" cy="2257560"/>
            <a:chOff x="4643280" y="498600"/>
            <a:chExt cx="4313520" cy="2257560"/>
          </a:xfrm>
        </p:grpSpPr>
        <p:sp>
          <p:nvSpPr>
            <p:cNvPr id="134" name="AutoShape 32"/>
            <p:cNvSpPr/>
            <p:nvPr/>
          </p:nvSpPr>
          <p:spPr>
            <a:xfrm>
              <a:off x="4643280" y="857160"/>
              <a:ext cx="2845800" cy="496440"/>
            </a:xfrm>
            <a:prstGeom prst="wedgeRoundRectCallout">
              <a:avLst>
                <a:gd name="adj1" fmla="val 65125"/>
                <a:gd name="adj2" fmla="val 98763"/>
                <a:gd name="adj3" fmla="val 16667"/>
              </a:avLst>
            </a:prstGeom>
            <a:solidFill>
              <a:srgbClr val="ff0000">
                <a:alpha val="19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斜着看口诀表每一行的最后一句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句口诀的两个乘数是一样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且每句只能写出一个乘法或除法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51" descr="20"/>
            <p:cNvPicPr/>
            <p:nvPr/>
          </p:nvPicPr>
          <p:blipFill>
            <a:blip r:embed="rId4"/>
            <a:srcRect l="17493" t="0" r="17928" b="12227"/>
            <a:stretch/>
          </p:blipFill>
          <p:spPr>
            <a:xfrm>
              <a:off x="7561080" y="49860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同侧圆角矩形 6"/>
          <p:cNvSpPr/>
          <p:nvPr/>
        </p:nvSpPr>
        <p:spPr>
          <a:xfrm>
            <a:off x="468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39560" y="136512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771640" y="804960"/>
            <a:ext cx="468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空格里填两个乘数的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92360" y="1700280"/>
          <a:ext cx="6192720" cy="4565520"/>
        </p:xfrm>
        <a:graphic>
          <a:graphicData uri="http://schemas.openxmlformats.org/drawingml/2006/table">
            <a:tbl>
              <a:tblPr/>
              <a:tblGrid>
                <a:gridCol w="619200"/>
                <a:gridCol w="618840"/>
                <a:gridCol w="619200"/>
                <a:gridCol w="619200"/>
                <a:gridCol w="619200"/>
                <a:gridCol w="619200"/>
                <a:gridCol w="618840"/>
                <a:gridCol w="619200"/>
                <a:gridCol w="619200"/>
                <a:gridCol w="62064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25000"/>
                      </a:srgbClr>
                    </a:soli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3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ff44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2"/>
          <p:cNvSpPr/>
          <p:nvPr/>
        </p:nvSpPr>
        <p:spPr>
          <a:xfrm>
            <a:off x="2387520" y="2602080"/>
            <a:ext cx="509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900520" y="2144880"/>
            <a:ext cx="72072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524400" y="2133720"/>
            <a:ext cx="72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179960" y="2133720"/>
            <a:ext cx="72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751280" y="2133720"/>
            <a:ext cx="72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416560" y="2147760"/>
            <a:ext cx="7207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072120" y="2149560"/>
            <a:ext cx="7207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621480" y="2149560"/>
            <a:ext cx="71928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236000" y="2149560"/>
            <a:ext cx="7207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6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华文新魏"/>
                <a:ea typeface="华文新魏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1866960" y="1557360"/>
            <a:ext cx="2332080" cy="496440"/>
          </a:xfrm>
          <a:prstGeom prst="wedgeRoundRectCallout">
            <a:avLst>
              <a:gd name="adj1" fmla="val -66930"/>
              <a:gd name="adj2" fmla="val 174199"/>
              <a:gd name="adj3" fmla="val 16667"/>
            </a:avLst>
          </a:prstGeom>
          <a:solidFill>
            <a:srgbClr val="4f81bd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4=4,2×2=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两个积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1" descr="女孩  23"/>
          <p:cNvPicPr/>
          <p:nvPr/>
        </p:nvPicPr>
        <p:blipFill>
          <a:blip r:embed="rId1"/>
          <a:stretch/>
        </p:blipFill>
        <p:spPr>
          <a:xfrm>
            <a:off x="430200" y="2019240"/>
            <a:ext cx="1322280" cy="17924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4"/>
          <p:cNvSpPr/>
          <p:nvPr/>
        </p:nvSpPr>
        <p:spPr>
          <a:xfrm>
            <a:off x="4834080" y="3016080"/>
            <a:ext cx="2563560" cy="496440"/>
          </a:xfrm>
          <a:prstGeom prst="wedgeRoundRectCallout">
            <a:avLst>
              <a:gd name="adj1" fmla="val 67842"/>
              <a:gd name="adj2" fmla="val 142898"/>
              <a:gd name="adj3" fmla="val 16667"/>
            </a:avLst>
          </a:prstGeom>
          <a:solidFill>
            <a:srgbClr val="7030a0">
              <a:alpha val="36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横行和第一竖相同，第二横行和第二竖行也相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2" descr="13"/>
          <p:cNvPicPr/>
          <p:nvPr/>
        </p:nvPicPr>
        <p:blipFill>
          <a:blip r:embed="rId2"/>
          <a:stretch/>
        </p:blipFill>
        <p:spPr>
          <a:xfrm>
            <a:off x="7807320" y="3489480"/>
            <a:ext cx="1285920" cy="19573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8"/>
          <p:cNvSpPr/>
          <p:nvPr/>
        </p:nvSpPr>
        <p:spPr>
          <a:xfrm>
            <a:off x="1873080" y="3897360"/>
            <a:ext cx="2778120" cy="496440"/>
          </a:xfrm>
          <a:prstGeom prst="wedgeRoundRectCallout">
            <a:avLst>
              <a:gd name="adj1" fmla="val -64236"/>
              <a:gd name="adj2" fmla="val 28694"/>
              <a:gd name="adj3" fmla="val 16667"/>
            </a:avLst>
          </a:prstGeom>
          <a:solidFill>
            <a:srgbClr val="ffff00">
              <a:alpha val="2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斜行上得到的积的两个乘数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2" descr="P-055"/>
          <p:cNvPicPr/>
          <p:nvPr/>
        </p:nvPicPr>
        <p:blipFill>
          <a:blip r:embed="rId3"/>
          <a:stretch/>
        </p:blipFill>
        <p:spPr>
          <a:xfrm>
            <a:off x="539640" y="4005360"/>
            <a:ext cx="1656000" cy="16221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2"/>
          <p:cNvSpPr/>
          <p:nvPr/>
        </p:nvSpPr>
        <p:spPr>
          <a:xfrm>
            <a:off x="4427640" y="1447920"/>
            <a:ext cx="2844720" cy="496440"/>
          </a:xfrm>
          <a:prstGeom prst="wedgeRoundRectCallout">
            <a:avLst>
              <a:gd name="adj1" fmla="val 65129"/>
              <a:gd name="adj2" fmla="val -3481"/>
              <a:gd name="adj3" fmla="val 16667"/>
            </a:avLst>
          </a:prstGeom>
          <a:solidFill>
            <a:srgbClr val="ff0000">
              <a:alpha val="19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相等的算式还有几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1" descr="20"/>
          <p:cNvPicPr/>
          <p:nvPr/>
        </p:nvPicPr>
        <p:blipFill>
          <a:blip r:embed="rId4"/>
          <a:srcRect l="17493" t="0" r="17928" b="12227"/>
          <a:stretch/>
        </p:blipFill>
        <p:spPr>
          <a:xfrm>
            <a:off x="7380360" y="658800"/>
            <a:ext cx="1395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332000" y="2852640"/>
            <a:ext cx="653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填上适当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156360" y="765000"/>
            <a:ext cx="2160720" cy="15973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6"/>
          <p:cNvSpPr/>
          <p:nvPr/>
        </p:nvSpPr>
        <p:spPr>
          <a:xfrm>
            <a:off x="960480" y="25653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道是找规律填数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思考的角度不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的规律也不一样。如观察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数可以发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数开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数都比前面的一个数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+9=19,19+9=28,28+9=3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按这样的规律填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-0=10,20-1=19,30-2=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6:05:25Z</dcterms:created>
  <dc:creator>cuichuanxin</dc:creator>
  <dc:description/>
  <dc:language>en-US</dc:language>
  <cp:lastModifiedBy>ww.xkb1.com</cp:lastModifiedBy>
  <dcterms:modified xsi:type="dcterms:W3CDTF">2016-08-19T07:49:50Z</dcterms:modified>
  <cp:revision>4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